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8.png" ContentType="image/png"/>
  <Override PartName="/ppt/media/image5.gif" ContentType="image/gif"/>
  <Override PartName="/ppt/media/image23.png" ContentType="image/png"/>
  <Override PartName="/ppt/media/image22.png" ContentType="image/png"/>
  <Override PartName="/ppt/media/image27.png" ContentType="image/png"/>
  <Override PartName="/ppt/media/image4.png" ContentType="image/png"/>
  <Override PartName="/ppt/media/image8.png" ContentType="image/png"/>
  <Override PartName="/ppt/media/image9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3.png" ContentType="image/png"/>
  <Override PartName="/ppt/media/image10.png" ContentType="image/png"/>
  <Override PartName="/ppt/media/image30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comments/comment2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Owner" initials="O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presProps" Target="presProps.xml"/><Relationship Id="rId40" Type="http://schemas.openxmlformats.org/officeDocument/2006/relationships/commentAuthors" Target="commentAuthors.xml"/>
</Relationships>
</file>

<file path=ppt/comments/comment24.xml><?xml version="1.0" encoding="utf-8"?>
<p:cmLst xmlns:p="http://schemas.openxmlformats.org/presentationml/2006/main">
  <p:cm authorId="0" dt="2012-05-02T19:00:18.606000000" idx="1">
    <p:pos x="5157" y="1214"/>
    <p:text>p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2B6C-A361-4A86-A05C-079B84CF3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33AA-ADBA-4D28-969B-6FCF4B2B2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54F4-70FD-4BD9-B0EF-BEDC21B78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16A4-4DF2-49A6-A16A-A7E1945B4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A01B2-FFBC-44C1-BCCC-47F5CCD58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E6702-DBBD-4749-B30F-CF7E4A57D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3763F-3CE3-404E-84B7-D56E159B0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7C5A3-998F-4B54-9A30-9D2C6ECB1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C8109-687C-4C63-B5EA-D3A016022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5E236-577A-444A-A333-F158DFA0F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3CD4D-81E2-4BF3-8644-5CE9D2916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761F-9C2D-4943-8FAB-8AE2A8F5D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20307-C48A-4862-A1C8-8F5E078CA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48F1B-B167-43B3-81A0-C54066A84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442E2-E707-422D-8790-DF46DAF7D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D08BE-96B1-43C8-8849-740116C16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E67A4-0456-431A-8D74-F00F80D8C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B583AE-7B86-42E4-823A-ADE525A08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30C1AF-4938-4E44-85F4-54D44CCD4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0A5A7E-1BD4-4AED-A5D7-A079F8BAA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F52222-348B-4C61-81D1-9EE6C4175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6722F4-6D70-499B-A49F-419F56E29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87D2-B64D-4ED4-B3F7-94B2A507E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03E616-B8FD-40BB-83EB-274EE369B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49A27E-09C3-422E-B626-BF7823D7E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D0F440-E5EA-4C15-8DAD-66706781B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51F06B-1E86-4C3E-8681-FEA0997ED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5FF9B0-3C65-44E7-91BA-30878EBE2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3383CE-D2BC-4D6F-A115-5962CDF93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0C5DB7-F791-46ED-918A-4952E1716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A0E88F-51C7-4214-948B-4DAF92302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A59C6D-7440-46AA-8CAF-962D03F49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82F994-3016-4624-8DBA-87ACC97F2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E05D-DE50-41CA-BA6A-00E586249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768AA3-4BE7-48FD-B6D8-6CD671AF2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602E6A-B327-44FF-A3CE-6540C7FF6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E1A10A-CFC0-4EEB-8084-3FF1D70D2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673AC6-3615-4BC4-B95A-95B92545A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380508-F8F4-4CFF-A060-E04BA7C4B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69B957-EED1-4E82-913E-4EF90E31F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BBBB65-10EF-484F-BBEA-D8240D8AF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27187B-8247-40FB-8AFD-A682E0CA3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B3DD2E-31C3-4AD4-8D43-FD472B436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797B5D-F371-4F28-937A-E65C67433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7F05-1EAC-4BC1-B7B1-00F77DBA8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940882-C62C-4AC9-AB29-98A6031BA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138915-EDD0-4DF0-81C1-3A134EE08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E8C516-74F3-4B59-850C-98E5DD8CC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54AA84-3E10-4D72-9613-46B23ADA9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784BAE-CDD1-459F-8C21-445A55535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FF89BC-2B0F-4FC9-B3A2-2B9CAD099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B448ED-2CBD-4DF0-BD87-7B2245FE5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7CCED2-F191-441C-B75F-8AFED1146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0CDB16-B413-433F-89B9-4520E5A73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348A52-FED8-425F-9BD2-05758BF14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668A-59BB-4C39-8A01-CA8BFF91D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3E2F29-CD7F-4BE4-AA0E-910E0D604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7512A2-2357-4E52-A8C2-9EA78F6BA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C80AD2-5721-4D24-B964-446748580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1B36B7-60F7-47E3-A724-683FB720D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71D162-5703-4342-8019-FEBD3CECE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3FB84F-2B5B-4D4B-B40E-35F9F9613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179978-A7D0-43B6-8CDE-F077B672D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016F15-2DA2-48AC-A1F8-99C2C9488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4FFB13-B348-4CD3-9528-918B19A5B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4458D1-7636-48C1-9AA2-28FDF42D6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F057-833B-4C73-9608-A957773A2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6799F5-4BB0-4456-BB30-5D30EAA19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91DAAB-1BDB-4396-80A5-0888F777F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8128F2-D312-44F3-9EE0-7E96F3B1D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FA587D-FC7E-439D-BD6A-6D4B39112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6193AD-D78A-4E6C-A957-61666C044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25E855-E450-449A-9590-77DDAC11A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0DFDAA-B0D3-4804-A2E8-C7C7C873C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D97FEF-69F7-4268-9CA8-41AC53FC4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90E046-D742-4592-A6FF-47ECCC50F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B5EEAB-DF74-47F0-9FFE-EB826BA9D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21FF-5C67-46E0-8D3E-2A01C529A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F00495-C1B7-4D66-ADD5-DCE6BDE7A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A32E17-64B7-417A-AB4C-E9B90BF1C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6ED956-2626-4A34-86EA-BD2AC65A7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D0EDC5-4555-4A39-BB35-B53235363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1F534A-86E5-4A08-A312-0C3C4708D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758D-1B84-4F15-AFFF-2C23CED1D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3f57"/>
            </a:gs>
            <a:gs pos="100000">
              <a:srgbClr val="7283a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ff39d">
                  <a:alpha val="1176"/>
                </a:srgbClr>
              </a:gs>
              <a:gs pos="100000">
                <a:srgbClr val="fff39d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9bdc4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1c4ca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65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e8637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e863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e863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eaf9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8ABC1-47FC-41F4-A3A7-39F8CCF306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3f57"/>
            </a:gs>
            <a:gs pos="100000">
              <a:srgbClr val="7283a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ff39d">
                  <a:alpha val="1176"/>
                </a:srgbClr>
              </a:gs>
              <a:gs pos="100000">
                <a:srgbClr val="fff39d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9bdc4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1c4ca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Isosceles Triangle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54500"/>
              </a:gs>
              <a:gs pos="100000">
                <a:srgbClr val="ff9f69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65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e8637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e863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e863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eaf9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88308-596D-45B1-B96B-14208591F660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3f57"/>
            </a:gs>
            <a:gs pos="100000">
              <a:srgbClr val="7283a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ff39d">
                  <a:alpha val="1176"/>
                </a:srgbClr>
              </a:gs>
              <a:gs pos="100000">
                <a:srgbClr val="fff39d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9bdc4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1c4ca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65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e8637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e863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e863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eaf9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E21AA-BA00-42ED-97DC-D8F6589F9F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ight Triangle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ff39d">
                  <a:alpha val="1176"/>
                </a:srgbClr>
              </a:gs>
              <a:gs pos="100000">
                <a:srgbClr val="fff39d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Isosceles Triangle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54500"/>
              </a:gs>
              <a:gs pos="100000">
                <a:srgbClr val="ff9f69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Straight Connector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1c4ca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Straight Connector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9bdc4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65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e8637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e863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e863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eaf9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732D6-C755-41E9-A5D8-BC6780B06EA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3f57"/>
            </a:gs>
            <a:gs pos="100000">
              <a:srgbClr val="7283a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65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e8637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e863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e863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eaf9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585DD-45A7-421F-93DD-ACE8DDE71C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3f57"/>
            </a:gs>
            <a:gs pos="100000">
              <a:srgbClr val="7283a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65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e8637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e863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e863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eaf9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EF1F3-8664-43D1-933B-1CADA9A0FF7B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65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e8637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e863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e863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eaf9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A759B-E5B7-4715-A5CF-EF245C55C8AC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25.xml"/><Relationship Id="rId4" Type="http://schemas.openxmlformats.org/officeDocument/2006/relationships/comments" Target="../comments/comment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" Target="slide9.xml"/><Relationship Id="rId5" Type="http://schemas.openxmlformats.org/officeDocument/2006/relationships/slide" Target="slide10.xml"/><Relationship Id="rId6" Type="http://schemas.openxmlformats.org/officeDocument/2006/relationships/slide" Target="slide11.xml"/><Relationship Id="rId7" Type="http://schemas.openxmlformats.org/officeDocument/2006/relationships/slide" Target="slide12.xml"/><Relationship Id="rId8" Type="http://schemas.openxmlformats.org/officeDocument/2006/relationships/slide" Target="slide13.xml"/><Relationship Id="rId9" Type="http://schemas.openxmlformats.org/officeDocument/2006/relationships/slide" Target="slide14.xml"/><Relationship Id="rId10" Type="http://schemas.openxmlformats.org/officeDocument/2006/relationships/slide" Target="slide15.xml"/><Relationship Id="rId11" Type="http://schemas.openxmlformats.org/officeDocument/2006/relationships/slide" Target="slide16.xml"/><Relationship Id="rId12" Type="http://schemas.openxmlformats.org/officeDocument/2006/relationships/slide" Target="slide17.xml"/><Relationship Id="rId13" Type="http://schemas.openxmlformats.org/officeDocument/2006/relationships/slide" Target="slide18.xml"/><Relationship Id="rId14" Type="http://schemas.openxmlformats.org/officeDocument/2006/relationships/slide" Target="slide19.xml"/><Relationship Id="rId15" Type="http://schemas.openxmlformats.org/officeDocument/2006/relationships/slide" Target="slide20.xml"/><Relationship Id="rId16" Type="http://schemas.openxmlformats.org/officeDocument/2006/relationships/slide" Target="slide21.xml"/><Relationship Id="rId17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Title 1" descr=""/>
          <p:cNvPicPr/>
          <p:nvPr/>
        </p:nvPicPr>
        <p:blipFill>
          <a:blip r:embed="rId1"/>
          <a:stretch/>
        </p:blipFill>
        <p:spPr>
          <a:xfrm>
            <a:off x="542880" y="774720"/>
            <a:ext cx="8058240" cy="1468440"/>
          </a:xfrm>
          <a:prstGeom prst="rect">
            <a:avLst/>
          </a:prstGeom>
          <a:ln w="0">
            <a:noFill/>
          </a:ln>
        </p:spPr>
      </p:pic>
      <p:pic>
        <p:nvPicPr>
          <p:cNvPr id="302" name="Subtitle 2" descr=""/>
          <p:cNvPicPr/>
          <p:nvPr/>
        </p:nvPicPr>
        <p:blipFill>
          <a:blip r:embed="rId2"/>
          <a:stretch/>
        </p:blipFill>
        <p:spPr>
          <a:xfrm>
            <a:off x="542880" y="2249640"/>
            <a:ext cx="8058240" cy="17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Title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200" spc="-1" strike="noStrike">
                <a:solidFill>
                  <a:srgbClr val="ffffff"/>
                </a:solidFill>
                <a:latin typeface="Century Gothic"/>
              </a:rPr>
              <a:t>Yo trepaba a los árboles cuando era niño/a.</a:t>
            </a:r>
            <a:endParaRPr b="0" lang="en-US" sz="7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26" name="Picture 4" descr="C:\Users\Owner\AppData\Local\Microsoft\Windows\Temporary Internet Files\Content.IE5\465JHOFG\MM900236492[1].gif"/>
          <p:cNvPicPr/>
          <p:nvPr/>
        </p:nvPicPr>
        <p:blipFill>
          <a:blip r:embed="rId2"/>
          <a:stretch/>
        </p:blipFill>
        <p:spPr>
          <a:xfrm>
            <a:off x="7315200" y="4714920"/>
            <a:ext cx="182880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Title 1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8454960" cy="139536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200" spc="-1" strike="noStrike">
                <a:solidFill>
                  <a:srgbClr val="ffffff"/>
                </a:solidFill>
                <a:latin typeface="Century Gothic"/>
              </a:rPr>
              <a:t>Nos portábamos mal.</a:t>
            </a:r>
            <a:endParaRPr b="0" lang="en-US" sz="7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29" name="Picture 4" descr="C:\Users\Owner\AppData\Local\Microsoft\Windows\Temporary Internet Files\Content.IE5\465JHOFG\MM900236492[1].gif"/>
          <p:cNvPicPr/>
          <p:nvPr/>
        </p:nvPicPr>
        <p:blipFill>
          <a:blip r:embed="rId2"/>
          <a:stretch/>
        </p:blipFill>
        <p:spPr>
          <a:xfrm>
            <a:off x="7315200" y="4714920"/>
            <a:ext cx="182880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6" dur="20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Title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200" spc="-1" strike="noStrike">
                <a:solidFill>
                  <a:srgbClr val="ffffff"/>
                </a:solidFill>
                <a:latin typeface="Century Gothic"/>
              </a:rPr>
              <a:t>SE SENTÍAN</a:t>
            </a:r>
            <a:endParaRPr b="0" lang="en-US" sz="7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32" name="Picture 4" descr="C:\Users\Owner\AppData\Local\Microsoft\Windows\Temporary Internet Files\Content.IE5\465JHOFG\MM900236492[1].gif"/>
          <p:cNvPicPr/>
          <p:nvPr/>
        </p:nvPicPr>
        <p:blipFill>
          <a:blip r:embed="rId2"/>
          <a:stretch/>
        </p:blipFill>
        <p:spPr>
          <a:xfrm>
            <a:off x="7315200" y="4714920"/>
            <a:ext cx="182880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Title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200" spc="-1" strike="noStrike">
                <a:solidFill>
                  <a:srgbClr val="ffffff"/>
                </a:solidFill>
                <a:latin typeface="Century Gothic"/>
              </a:rPr>
              <a:t>VEÍAIS</a:t>
            </a:r>
            <a:endParaRPr b="0" lang="en-US" sz="7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35" name="Picture 4" descr="C:\Users\Owner\AppData\Local\Microsoft\Windows\Temporary Internet Files\Content.IE5\465JHOFG\MM900236492[1].gif"/>
          <p:cNvPicPr/>
          <p:nvPr/>
        </p:nvPicPr>
        <p:blipFill>
          <a:blip r:embed="rId2"/>
          <a:stretch/>
        </p:blipFill>
        <p:spPr>
          <a:xfrm>
            <a:off x="7315200" y="4714920"/>
            <a:ext cx="182880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" dur="50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Title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200" spc="-1" strike="noStrike">
                <a:solidFill>
                  <a:srgbClr val="ffffff"/>
                </a:solidFill>
                <a:latin typeface="Century Gothic"/>
              </a:rPr>
              <a:t>Mi madrastra siempre tenía cuidado.</a:t>
            </a:r>
            <a:endParaRPr b="0" lang="en-US" sz="7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38" name="Picture 4" descr="C:\Users\Owner\AppData\Local\Microsoft\Windows\Temporary Internet Files\Content.IE5\465JHOFG\MM900236492[1].gif"/>
          <p:cNvPicPr/>
          <p:nvPr/>
        </p:nvPicPr>
        <p:blipFill>
          <a:blip r:embed="rId2"/>
          <a:stretch/>
        </p:blipFill>
        <p:spPr>
          <a:xfrm>
            <a:off x="7315200" y="4714920"/>
            <a:ext cx="182880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Title 1" descr=""/>
          <p:cNvPicPr/>
          <p:nvPr/>
        </p:nvPicPr>
        <p:blipFill>
          <a:blip r:embed="rId1"/>
          <a:stretch/>
        </p:blipFill>
        <p:spPr>
          <a:xfrm>
            <a:off x="457200" y="146160"/>
            <a:ext cx="8229600" cy="223668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 txBox="1"/>
          <p:nvPr/>
        </p:nvSpPr>
        <p:spPr>
          <a:xfrm>
            <a:off x="457200" y="25146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200" spc="-1" strike="noStrike">
                <a:solidFill>
                  <a:srgbClr val="ffffff"/>
                </a:solidFill>
                <a:latin typeface="Century Gothic"/>
              </a:rPr>
              <a:t>Sí, puedes usar la calculadora mía. </a:t>
            </a:r>
            <a:endParaRPr b="0" lang="en-US" sz="7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41" name="Picture 4" descr="C:\Users\Owner\AppData\Local\Microsoft\Windows\Temporary Internet Files\Content.IE5\465JHOFG\MM900236492[1].gif"/>
          <p:cNvPicPr/>
          <p:nvPr/>
        </p:nvPicPr>
        <p:blipFill>
          <a:blip r:embed="rId2"/>
          <a:stretch/>
        </p:blipFill>
        <p:spPr>
          <a:xfrm>
            <a:off x="7315200" y="4714920"/>
            <a:ext cx="182880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5" dur="20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Title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200" spc="-1" strike="noStrike">
                <a:solidFill>
                  <a:srgbClr val="ffffff"/>
                </a:solidFill>
                <a:latin typeface="Century Gothic"/>
              </a:rPr>
              <a:t>UN AMIGO TUYO</a:t>
            </a:r>
            <a:endParaRPr b="0" lang="en-US" sz="7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44" name="Picture 4" descr="C:\Users\Owner\AppData\Local\Microsoft\Windows\Temporary Internet Files\Content.IE5\465JHOFG\MM900236492[1].gif"/>
          <p:cNvPicPr/>
          <p:nvPr/>
        </p:nvPicPr>
        <p:blipFill>
          <a:blip r:embed="rId2"/>
          <a:stretch/>
        </p:blipFill>
        <p:spPr>
          <a:xfrm>
            <a:off x="7315200" y="4714920"/>
            <a:ext cx="182880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40184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 txBox="1"/>
          <p:nvPr/>
        </p:nvSpPr>
        <p:spPr>
          <a:xfrm>
            <a:off x="457200" y="2666880"/>
            <a:ext cx="8229600" cy="37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ffffff"/>
                </a:solidFill>
                <a:latin typeface="Century Gothic"/>
              </a:rPr>
              <a:t>Yo voy a visitar a un cuñado suyo.  </a:t>
            </a: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47" name="Picture 4" descr="C:\Users\Owner\AppData\Local\Microsoft\Windows\Temporary Internet Files\Content.IE5\465JHOFG\MM900236492[1].gif"/>
          <p:cNvPicPr/>
          <p:nvPr/>
        </p:nvPicPr>
        <p:blipFill>
          <a:blip r:embed="rId2"/>
          <a:stretch/>
        </p:blipFill>
        <p:spPr>
          <a:xfrm>
            <a:off x="7315200" y="4714920"/>
            <a:ext cx="182880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Title 1" descr=""/>
          <p:cNvPicPr/>
          <p:nvPr/>
        </p:nvPicPr>
        <p:blipFill>
          <a:blip r:embed="rId1"/>
          <a:stretch/>
        </p:blipFill>
        <p:spPr>
          <a:xfrm>
            <a:off x="152280" y="268200"/>
            <a:ext cx="8686800" cy="1792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49" name=""/>
          <p:cNvGraphicFramePr/>
          <p:nvPr/>
        </p:nvGraphicFramePr>
        <p:xfrm>
          <a:off x="723960" y="2286000"/>
          <a:ext cx="7315200" cy="3017880"/>
        </p:xfrm>
        <a:graphic>
          <a:graphicData uri="http://schemas.openxmlformats.org/drawingml/2006/table">
            <a:tbl>
              <a:tblPr/>
              <a:tblGrid>
                <a:gridCol w="3657600"/>
                <a:gridCol w="3657600"/>
              </a:tblGrid>
              <a:tr h="1006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6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era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6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éramos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6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6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eras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6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erais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6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6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era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6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eran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</a:tbl>
          </a:graphicData>
        </a:graphic>
      </p:graphicFrame>
      <p:pic>
        <p:nvPicPr>
          <p:cNvPr id="350" name="Picture 4" descr="C:\Users\Owner\AppData\Local\Microsoft\Windows\Temporary Internet Files\Content.IE5\465JHOFG\MM900236492[1].gif"/>
          <p:cNvPicPr/>
          <p:nvPr/>
        </p:nvPicPr>
        <p:blipFill>
          <a:blip r:embed="rId2"/>
          <a:stretch/>
        </p:blipFill>
        <p:spPr>
          <a:xfrm>
            <a:off x="7315200" y="4714920"/>
            <a:ext cx="182880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Title 1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8686800" cy="201780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 txBox="1"/>
          <p:nvPr/>
        </p:nvSpPr>
        <p:spPr>
          <a:xfrm>
            <a:off x="457200" y="23623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200" spc="-1" strike="noStrike">
                <a:solidFill>
                  <a:srgbClr val="ffffff"/>
                </a:solidFill>
                <a:latin typeface="Century Gothic"/>
              </a:rPr>
              <a:t>una bisabuela vuestra</a:t>
            </a:r>
            <a:endParaRPr b="0" lang="en-US" sz="7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53" name="Picture 4" descr="C:\Users\Owner\AppData\Local\Microsoft\Windows\Temporary Internet Files\Content.IE5\465JHOFG\MM900236492[1].gif"/>
          <p:cNvPicPr/>
          <p:nvPr/>
        </p:nvPicPr>
        <p:blipFill>
          <a:blip r:embed="rId2"/>
          <a:stretch/>
        </p:blipFill>
        <p:spPr>
          <a:xfrm>
            <a:off x="7315200" y="4714920"/>
            <a:ext cx="182880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Title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 txBox="1"/>
          <p:nvPr/>
        </p:nvSpPr>
        <p:spPr>
          <a:xfrm>
            <a:off x="457200" y="9903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80000"/>
              </a:lnSpc>
              <a:spcBef>
                <a:spcPts val="649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Materiales: Una hoja de paper / un lápiz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49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Hay </a:t>
            </a:r>
            <a:r>
              <a:rPr b="0" lang="en-US" sz="2600" spc="-1" strike="noStrike">
                <a:solidFill>
                  <a:srgbClr val="7598d9"/>
                </a:solidFill>
                <a:latin typeface="Century Gothic"/>
              </a:rPr>
              <a:t>dos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 equipos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49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The first person on </a:t>
            </a:r>
            <a:r>
              <a:rPr b="0" lang="en-US" sz="2600" spc="-1" strike="noStrike">
                <a:solidFill>
                  <a:srgbClr val="fe8637"/>
                </a:solidFill>
                <a:latin typeface="Century Gothic"/>
              </a:rPr>
              <a:t>team one 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chooses a number for the opposite team in order to reveal the question.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49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If you are on </a:t>
            </a:r>
            <a:r>
              <a:rPr b="0" lang="en-US" sz="2600" spc="-1" strike="noStrike">
                <a:solidFill>
                  <a:srgbClr val="ffe636"/>
                </a:solidFill>
                <a:latin typeface="Century Gothic"/>
              </a:rPr>
              <a:t>team two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 and know the answer, or want to “BLUFF,” write down your answer on your paper(or pretend to) and stand up.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49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The first person on </a:t>
            </a:r>
            <a:r>
              <a:rPr b="0" lang="en-US" sz="2600" spc="-1" strike="noStrike">
                <a:solidFill>
                  <a:srgbClr val="fe8637"/>
                </a:solidFill>
                <a:latin typeface="Century Gothic"/>
              </a:rPr>
              <a:t>team one 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will then select a student, from those who are standing, to answer.  If he/she is correct, then </a:t>
            </a:r>
            <a:r>
              <a:rPr b="0" lang="en-US" sz="2600" spc="-1" strike="noStrike">
                <a:solidFill>
                  <a:srgbClr val="ffe636"/>
                </a:solidFill>
                <a:latin typeface="Century Gothic"/>
              </a:rPr>
              <a:t>team two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 receives as many points as people standing. If incorrect, then </a:t>
            </a:r>
            <a:r>
              <a:rPr b="0" lang="en-US" sz="2600" spc="-1" strike="noStrike">
                <a:solidFill>
                  <a:srgbClr val="fe8637"/>
                </a:solidFill>
                <a:latin typeface="Century Gothic"/>
              </a:rPr>
              <a:t>team one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 receives the points.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49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REPEAT the same process but with the other team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Title 1" descr=""/>
          <p:cNvPicPr/>
          <p:nvPr/>
        </p:nvPicPr>
        <p:blipFill>
          <a:blip r:embed="rId1"/>
          <a:stretch/>
        </p:blipFill>
        <p:spPr>
          <a:xfrm>
            <a:off x="457200" y="225360"/>
            <a:ext cx="8229600" cy="193824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 txBox="1"/>
          <p:nvPr/>
        </p:nvSpPr>
        <p:spPr>
          <a:xfrm>
            <a:off x="304920" y="2666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200" spc="-1" strike="noStrike">
                <a:solidFill>
                  <a:srgbClr val="ffffff"/>
                </a:solidFill>
                <a:latin typeface="Century Gothic"/>
              </a:rPr>
              <a:t>PREOCUPARSE POR</a:t>
            </a:r>
            <a:endParaRPr b="0" lang="en-US" sz="7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56" name="Picture 4" descr="C:\Users\Owner\AppData\Local\Microsoft\Windows\Temporary Internet Files\Content.IE5\465JHOFG\MM900236492[1].gif"/>
          <p:cNvPicPr/>
          <p:nvPr/>
        </p:nvPicPr>
        <p:blipFill>
          <a:blip r:embed="rId2"/>
          <a:stretch/>
        </p:blipFill>
        <p:spPr>
          <a:xfrm>
            <a:off x="7315200" y="4714920"/>
            <a:ext cx="182880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8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8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8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8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Title 1" descr=""/>
          <p:cNvPicPr/>
          <p:nvPr/>
        </p:nvPicPr>
        <p:blipFill>
          <a:blip r:embed="rId1"/>
          <a:stretch/>
        </p:blipFill>
        <p:spPr>
          <a:xfrm>
            <a:off x="457200" y="171360"/>
            <a:ext cx="8229600" cy="165744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 txBox="1"/>
          <p:nvPr/>
        </p:nvSpPr>
        <p:spPr>
          <a:xfrm>
            <a:off x="457200" y="1828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entury Gothic"/>
              </a:rPr>
              <a:t>VERB CHOICES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Century Gothic"/>
              </a:rPr>
              <a:t>  </a:t>
            </a:r>
            <a:r>
              <a:rPr b="0" lang="es-ES_tradnl" sz="3200" spc="-1" strike="noStrike">
                <a:solidFill>
                  <a:srgbClr val="ffffff"/>
                </a:solidFill>
                <a:latin typeface="Century Gothic"/>
              </a:rPr>
              <a:t>enojarse con – cansarse – asustarse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Century Gothic"/>
              </a:rPr>
              <a:t>Mi hermano ______________ de los lugares muy altos. 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59" name="Rectangle 3" descr=""/>
          <p:cNvPicPr/>
          <p:nvPr/>
        </p:nvPicPr>
        <p:blipFill>
          <a:blip r:embed="rId2"/>
          <a:stretch/>
        </p:blipFill>
        <p:spPr>
          <a:xfrm>
            <a:off x="3962520" y="3956040"/>
            <a:ext cx="4498920" cy="123840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4" descr="C:\Users\Owner\AppData\Local\Microsoft\Windows\Temporary Internet Files\Content.IE5\465JHOFG\MM900236492[1].gif"/>
          <p:cNvPicPr/>
          <p:nvPr/>
        </p:nvPicPr>
        <p:blipFill>
          <a:blip r:embed="rId3"/>
          <a:stretch/>
        </p:blipFill>
        <p:spPr>
          <a:xfrm>
            <a:off x="7315200" y="4714920"/>
            <a:ext cx="182880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8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8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8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8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Title 1" descr=""/>
          <p:cNvPicPr/>
          <p:nvPr/>
        </p:nvPicPr>
        <p:blipFill>
          <a:blip r:embed="rId1"/>
          <a:stretch/>
        </p:blipFill>
        <p:spPr>
          <a:xfrm>
            <a:off x="457200" y="171360"/>
            <a:ext cx="8229600" cy="1657440"/>
          </a:xfrm>
          <a:prstGeom prst="rect">
            <a:avLst/>
          </a:prstGeom>
          <a:ln w="0">
            <a:noFill/>
          </a:ln>
        </p:spPr>
      </p:pic>
      <p:sp>
        <p:nvSpPr>
          <p:cNvPr id="362" name="Content Placeholder 2"/>
          <p:cNvSpPr/>
          <p:nvPr/>
        </p:nvSpPr>
        <p:spPr>
          <a:xfrm>
            <a:off x="457200" y="1981080"/>
            <a:ext cx="8229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7840" indent="-3826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entury Gothic"/>
                <a:ea typeface="Arial"/>
              </a:rPr>
              <a:t>VERB CHOICES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entury Gothic"/>
                <a:ea typeface="Arial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Century Gothic"/>
                <a:ea typeface="Arial"/>
              </a:rPr>
              <a:t>enojarse con – cansarse – asustarse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Century Gothic"/>
                <a:ea typeface="Arial"/>
              </a:rPr>
              <a:t>Nosotros __________________ con nuestros padres cuando tenemos quehaceres.  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63" name="Rectangle 5" descr=""/>
          <p:cNvPicPr/>
          <p:nvPr/>
        </p:nvPicPr>
        <p:blipFill>
          <a:blip r:embed="rId2"/>
          <a:stretch/>
        </p:blipFill>
        <p:spPr>
          <a:xfrm>
            <a:off x="3114720" y="3193920"/>
            <a:ext cx="5413320" cy="115272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4" descr="C:\Users\Owner\AppData\Local\Microsoft\Windows\Temporary Internet Files\Content.IE5\465JHOFG\MM900236492[1].gif"/>
          <p:cNvPicPr/>
          <p:nvPr/>
        </p:nvPicPr>
        <p:blipFill>
          <a:blip r:embed="rId3"/>
          <a:stretch/>
        </p:blipFill>
        <p:spPr>
          <a:xfrm>
            <a:off x="7315200" y="4714920"/>
            <a:ext cx="182880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8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8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8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8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Title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66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200" spc="-1" strike="noStrike">
                <a:solidFill>
                  <a:srgbClr val="ffffff"/>
                </a:solidFill>
                <a:latin typeface="Century Gothic"/>
              </a:rPr>
              <a:t>SALTAR LA CUERDA</a:t>
            </a:r>
            <a:endParaRPr b="0" lang="en-US" sz="7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67" name="Picture 4" descr="C:\Users\Owner\AppData\Local\Microsoft\Windows\Temporary Internet Files\Content.IE5\465JHOFG\MM900236492[1].gif"/>
          <p:cNvPicPr/>
          <p:nvPr/>
        </p:nvPicPr>
        <p:blipFill>
          <a:blip r:embed="rId2"/>
          <a:stretch/>
        </p:blipFill>
        <p:spPr>
          <a:xfrm>
            <a:off x="7315200" y="4714920"/>
            <a:ext cx="182880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9" dur="2000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Title 1" descr=""/>
          <p:cNvPicPr/>
          <p:nvPr/>
        </p:nvPicPr>
        <p:blipFill>
          <a:blip r:embed="rId1"/>
          <a:stretch/>
        </p:blipFill>
        <p:spPr>
          <a:xfrm>
            <a:off x="0" y="493560"/>
            <a:ext cx="9144000" cy="221328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 txBox="1"/>
          <p:nvPr/>
        </p:nvSpPr>
        <p:spPr>
          <a:xfrm>
            <a:off x="762120" y="3123720"/>
            <a:ext cx="761976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ffffff"/>
                </a:solidFill>
                <a:latin typeface="Century Gothic"/>
              </a:rPr>
              <a:t>Yo jugaba con la muñeca mía mucho. </a:t>
            </a:r>
            <a:endParaRPr b="0" lang="en-US" sz="6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70" name="Picture 4" descr="C:\Users\Owner\AppData\Local\Microsoft\Windows\Temporary Internet Files\Content.IE5\465JHOFG\MM900236492[1].gif"/>
          <p:cNvPicPr/>
          <p:nvPr/>
        </p:nvPicPr>
        <p:blipFill>
          <a:blip r:embed="rId2"/>
          <a:stretch/>
        </p:blipFill>
        <p:spPr>
          <a:xfrm>
            <a:off x="7315200" y="4714920"/>
            <a:ext cx="182880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6" dur="500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Title 1" descr=""/>
          <p:cNvPicPr/>
          <p:nvPr/>
        </p:nvPicPr>
        <p:blipFill>
          <a:blip r:embed="rId1"/>
          <a:stretch/>
        </p:blipFill>
        <p:spPr>
          <a:xfrm>
            <a:off x="0" y="347760"/>
            <a:ext cx="8686800" cy="215100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 txBox="1"/>
          <p:nvPr/>
        </p:nvSpPr>
        <p:spPr>
          <a:xfrm>
            <a:off x="380880" y="28954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200" spc="-1" strike="noStrike">
                <a:solidFill>
                  <a:srgbClr val="ffffff"/>
                </a:solidFill>
                <a:latin typeface="Century Gothic"/>
              </a:rPr>
              <a:t>AFTER</a:t>
            </a:r>
            <a:endParaRPr b="0" lang="en-US" sz="7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73" name="Picture 4" descr="C:\Users\Owner\AppData\Local\Microsoft\Windows\Temporary Internet Files\Content.IE5\465JHOFG\MM900236492[1].gif"/>
          <p:cNvPicPr/>
          <p:nvPr/>
        </p:nvPicPr>
        <p:blipFill>
          <a:blip r:embed="rId2"/>
          <a:stretch/>
        </p:blipFill>
        <p:spPr>
          <a:xfrm>
            <a:off x="7315200" y="4714920"/>
            <a:ext cx="182880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8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8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8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8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Title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200" spc="-1" strike="noStrike">
                <a:solidFill>
                  <a:srgbClr val="ffffff"/>
                </a:solidFill>
                <a:latin typeface="Century Gothic"/>
              </a:rPr>
              <a:t>A friend of mine was very sociable!</a:t>
            </a:r>
            <a:endParaRPr b="0" lang="en-US" sz="7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76" name="Picture 4" descr="C:\Users\Owner\AppData\Local\Microsoft\Windows\Temporary Internet Files\Content.IE5\465JHOFG\MM900236492[1].gif"/>
          <p:cNvPicPr/>
          <p:nvPr/>
        </p:nvPicPr>
        <p:blipFill>
          <a:blip r:embed="rId2"/>
          <a:stretch/>
        </p:blipFill>
        <p:spPr>
          <a:xfrm>
            <a:off x="7315200" y="4714920"/>
            <a:ext cx="182880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5" dur="2000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Title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Century Gothic"/>
              </a:rPr>
              <a:t>La marioneta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Century Gothic"/>
              </a:rPr>
              <a:t>La muñeca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Century Gothic"/>
              </a:rPr>
              <a:t>El muñeco de peluche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79" name="Picture 4" descr="C:\Users\Owner\AppData\Local\Microsoft\Windows\Temporary Internet Files\Content.IE5\465JHOFG\MM900236492[1].gif"/>
          <p:cNvPicPr/>
          <p:nvPr/>
        </p:nvPicPr>
        <p:blipFill>
          <a:blip r:embed="rId2"/>
          <a:stretch/>
        </p:blipFill>
        <p:spPr>
          <a:xfrm>
            <a:off x="7315200" y="4714920"/>
            <a:ext cx="182880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2" dur="5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Titl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82880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 txBox="1"/>
          <p:nvPr/>
        </p:nvSpPr>
        <p:spPr>
          <a:xfrm>
            <a:off x="762120" y="1981080"/>
            <a:ext cx="5943600" cy="38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lnSpc>
                <a:spcPct val="15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Century Gothic"/>
              </a:rPr>
              <a:t>Un gato suyo dormía fuera de la casa. 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82" name="Picture 4" descr="C:\Users\Owner\AppData\Local\Microsoft\Windows\Temporary Internet Files\Content.IE5\465JHOFG\MM900236492[1].gif"/>
          <p:cNvPicPr/>
          <p:nvPr/>
        </p:nvPicPr>
        <p:blipFill>
          <a:blip r:embed="rId2"/>
          <a:stretch/>
        </p:blipFill>
        <p:spPr>
          <a:xfrm>
            <a:off x="7315200" y="4714920"/>
            <a:ext cx="182880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29" dur="2000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Title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 txBox="1"/>
          <p:nvPr/>
        </p:nvSpPr>
        <p:spPr>
          <a:xfrm>
            <a:off x="-228600" y="17524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16160" indent="-3556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ffffff"/>
                </a:solidFill>
                <a:latin typeface="Century Gothic"/>
              </a:rPr>
              <a:t>el(la) bisabuelo(a)</a:t>
            </a:r>
            <a:endParaRPr b="0" lang="en-US" sz="5400" spc="-1" strike="noStrike">
              <a:solidFill>
                <a:srgbClr val="ffffff"/>
              </a:solidFill>
              <a:latin typeface="Century Gothic"/>
            </a:endParaRPr>
          </a:p>
          <a:p>
            <a:pPr marL="416160" indent="-3556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ffffff"/>
                </a:solidFill>
                <a:latin typeface="Century Gothic"/>
              </a:rPr>
              <a:t>el(la) cuñado(a)</a:t>
            </a:r>
            <a:endParaRPr b="0" lang="en-US" sz="5400" spc="-1" strike="noStrike">
              <a:solidFill>
                <a:srgbClr val="ffffff"/>
              </a:solidFill>
              <a:latin typeface="Century Gothic"/>
            </a:endParaRPr>
          </a:p>
          <a:p>
            <a:pPr marL="416160" indent="-3556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ffffff"/>
                </a:solidFill>
                <a:latin typeface="Century Gothic"/>
              </a:rPr>
              <a:t>los(las) gemelos(as)</a:t>
            </a:r>
            <a:endParaRPr b="0" lang="en-US" sz="5400" spc="-1" strike="noStrike">
              <a:solidFill>
                <a:srgbClr val="ffffff"/>
              </a:solidFill>
              <a:latin typeface="Century Gothic"/>
            </a:endParaRPr>
          </a:p>
          <a:p>
            <a:pPr marL="416160" indent="-3556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ffffff"/>
                </a:solidFill>
                <a:latin typeface="Century Gothic"/>
              </a:rPr>
              <a:t>el(la) pariente (a)</a:t>
            </a:r>
            <a:endParaRPr b="0" lang="en-US" sz="5400" spc="-1" strike="noStrike">
              <a:solidFill>
                <a:srgbClr val="ffffff"/>
              </a:solidFill>
              <a:latin typeface="Century Gothic"/>
            </a:endParaRPr>
          </a:p>
          <a:p>
            <a:pPr marL="416160" indent="-3556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ffffff"/>
                </a:solidFill>
                <a:latin typeface="Century Gothic"/>
              </a:rPr>
              <a:t>el(la) sobrino(a)</a:t>
            </a:r>
            <a:endParaRPr b="0" lang="en-US" sz="5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85" name="Picture 4" descr="C:\Users\Owner\AppData\Local\Microsoft\Windows\Temporary Internet Files\Content.IE5\465JHOFG\MM900236492[1].gif"/>
          <p:cNvPicPr/>
          <p:nvPr/>
        </p:nvPicPr>
        <p:blipFill>
          <a:blip r:embed="rId2"/>
          <a:stretch/>
        </p:blipFill>
        <p:spPr>
          <a:xfrm>
            <a:off x="7315200" y="4714920"/>
            <a:ext cx="182880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6" dur="5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1" dur="500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6" dur="500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1" dur="500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6" dur="500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5" name=""/>
          <p:cNvGraphicFramePr/>
          <p:nvPr/>
        </p:nvGraphicFramePr>
        <p:xfrm>
          <a:off x="1371600" y="787320"/>
          <a:ext cx="6629400" cy="5410440"/>
        </p:xfrm>
        <a:graphic>
          <a:graphicData uri="http://schemas.openxmlformats.org/drawingml/2006/table">
            <a:tbl>
              <a:tblPr/>
              <a:tblGrid>
                <a:gridCol w="1325520"/>
                <a:gridCol w="1325520"/>
                <a:gridCol w="1327320"/>
                <a:gridCol w="1325520"/>
                <a:gridCol w="1325520"/>
              </a:tblGrid>
              <a:tr h="104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 u="sng">
                          <a:solidFill>
                            <a:srgbClr val="d2611c"/>
                          </a:solidFill>
                          <a:uFillTx/>
                          <a:latin typeface="Century Gothic"/>
                          <a:hlinkClick r:id="rId1" action="ppaction://hlinksldjump"/>
                        </a:rPr>
                        <a:t>1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e8637"/>
                      </a:solidFill>
                    </a:lnL>
                    <a:lnR>
                      <a:noFill/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 u="sng">
                          <a:solidFill>
                            <a:srgbClr val="d2611c"/>
                          </a:solidFill>
                          <a:uFillTx/>
                          <a:latin typeface="Century Gothic"/>
                          <a:hlinkClick r:id="rId2" action="ppaction://hlinksldjump"/>
                        </a:rPr>
                        <a:t>2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 u="sng">
                          <a:solidFill>
                            <a:srgbClr val="d2611c"/>
                          </a:solidFill>
                          <a:uFillTx/>
                          <a:latin typeface="Century Gothic"/>
                          <a:hlinkClick r:id="rId3" action="ppaction://hlinksldjump"/>
                        </a:rPr>
                        <a:t>3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 u="sng">
                          <a:solidFill>
                            <a:srgbClr val="d2611c"/>
                          </a:solidFill>
                          <a:uFillTx/>
                          <a:latin typeface="Century Gothic"/>
                          <a:hlinkClick r:id="rId4" action="ppaction://hlinksldjump"/>
                        </a:rPr>
                        <a:t>4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 u="sng">
                          <a:solidFill>
                            <a:srgbClr val="d2611c"/>
                          </a:solidFill>
                          <a:uFillTx/>
                          <a:latin typeface="Century Gothic"/>
                          <a:hlinkClick r:id="rId5" action="ppaction://hlinksldjump"/>
                        </a:rPr>
                        <a:t>5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109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 u="sng">
                          <a:solidFill>
                            <a:srgbClr val="d2611c"/>
                          </a:solidFill>
                          <a:uFillTx/>
                          <a:latin typeface="Century Gothic"/>
                          <a:hlinkClick r:id="rId6" action="ppaction://hlinksldjump"/>
                        </a:rPr>
                        <a:t>6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e8637"/>
                      </a:solidFill>
                    </a:lnL>
                    <a:lnR>
                      <a:noFill/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 u="sng">
                          <a:solidFill>
                            <a:srgbClr val="d2611c"/>
                          </a:solidFill>
                          <a:uFillTx/>
                          <a:latin typeface="Century Gothic"/>
                          <a:hlinkClick r:id="rId7" action="ppaction://hlinksldjump"/>
                        </a:rPr>
                        <a:t>7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 u="sng">
                          <a:solidFill>
                            <a:srgbClr val="d2611c"/>
                          </a:solidFill>
                          <a:uFillTx/>
                          <a:latin typeface="Century Gothic"/>
                          <a:hlinkClick r:id="rId8" action="ppaction://hlinksldjump"/>
                        </a:rPr>
                        <a:t>8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 u="sng">
                          <a:solidFill>
                            <a:srgbClr val="d2611c"/>
                          </a:solidFill>
                          <a:uFillTx/>
                          <a:latin typeface="Century Gothic"/>
                          <a:hlinkClick r:id="rId9" action="ppaction://hlinksldjump"/>
                        </a:rPr>
                        <a:t>9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 u="sng">
                          <a:solidFill>
                            <a:srgbClr val="d2611c"/>
                          </a:solidFill>
                          <a:uFillTx/>
                          <a:latin typeface="Century Gothic"/>
                          <a:hlinkClick r:id="rId10" action="ppaction://hlinksldjump"/>
                        </a:rPr>
                        <a:t>10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109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 u="sng">
                          <a:solidFill>
                            <a:srgbClr val="d2611c"/>
                          </a:solidFill>
                          <a:uFillTx/>
                          <a:latin typeface="Century Gothic"/>
                          <a:hlinkClick r:id="rId11" action="ppaction://hlinksldjump"/>
                        </a:rPr>
                        <a:t>11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e8637"/>
                      </a:solidFill>
                    </a:lnL>
                    <a:lnR>
                      <a:noFill/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 u="sng">
                          <a:solidFill>
                            <a:srgbClr val="d2611c"/>
                          </a:solidFill>
                          <a:uFillTx/>
                          <a:latin typeface="Century Gothic"/>
                          <a:hlinkClick r:id="rId12" action="ppaction://hlinksldjump"/>
                        </a:rPr>
                        <a:t>12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 u="sng">
                          <a:solidFill>
                            <a:srgbClr val="d2611c"/>
                          </a:solidFill>
                          <a:uFillTx/>
                          <a:latin typeface="Century Gothic"/>
                          <a:hlinkClick r:id="rId13" action="ppaction://hlinksldjump"/>
                        </a:rPr>
                        <a:t>13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 u="sng">
                          <a:solidFill>
                            <a:srgbClr val="d2611c"/>
                          </a:solidFill>
                          <a:uFillTx/>
                          <a:latin typeface="Century Gothic"/>
                          <a:hlinkClick r:id="rId14" action="ppaction://hlinksldjump"/>
                        </a:rPr>
                        <a:t>14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 u="sng">
                          <a:solidFill>
                            <a:srgbClr val="d2611c"/>
                          </a:solidFill>
                          <a:uFillTx/>
                          <a:latin typeface="Century Gothic"/>
                          <a:hlinkClick r:id="rId15" action="ppaction://hlinksldjump"/>
                        </a:rPr>
                        <a:t>15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 u="sng">
                          <a:solidFill>
                            <a:srgbClr val="d2611c"/>
                          </a:solidFill>
                          <a:uFillTx/>
                          <a:latin typeface="Century Gothic"/>
                          <a:hlinkClick r:id="rId16" action="ppaction://hlinksldjump"/>
                        </a:rPr>
                        <a:t>16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e8637"/>
                      </a:solidFill>
                    </a:lnL>
                    <a:lnR>
                      <a:noFill/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7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8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9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0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109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1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e8637"/>
                      </a:solidFill>
                    </a:lnL>
                    <a:lnR>
                      <a:noFill/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2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3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4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5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21528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 txBox="1"/>
          <p:nvPr/>
        </p:nvSpPr>
        <p:spPr>
          <a:xfrm>
            <a:off x="457200" y="28954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ffffff"/>
                </a:solidFill>
                <a:latin typeface="Century Gothic"/>
              </a:rPr>
              <a:t>sentirse – to feel</a:t>
            </a:r>
            <a:endParaRPr b="0" lang="en-US" sz="6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ffffff"/>
                </a:solidFill>
                <a:latin typeface="Century Gothic"/>
              </a:rPr>
              <a:t>sentarse – to sit down</a:t>
            </a:r>
            <a:endParaRPr b="0" lang="en-US" sz="6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ffffff"/>
                </a:solidFill>
                <a:latin typeface="Century Gothic"/>
              </a:rPr>
              <a:t>me siento</a:t>
            </a:r>
            <a:endParaRPr b="0" lang="en-US" sz="6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88" name="Picture 4" descr="C:\Users\Owner\AppData\Local\Microsoft\Windows\Temporary Internet Files\Content.IE5\465JHOFG\MM900236492[1].gif"/>
          <p:cNvPicPr/>
          <p:nvPr/>
        </p:nvPicPr>
        <p:blipFill>
          <a:blip r:embed="rId2"/>
          <a:stretch/>
        </p:blipFill>
        <p:spPr>
          <a:xfrm>
            <a:off x="7315200" y="4714920"/>
            <a:ext cx="182880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Title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Century Gothic"/>
              </a:rPr>
              <a:t>SER, IR, VER</a:t>
            </a:r>
            <a:endParaRPr b="0" lang="en-US" sz="9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08" name="Picture 4" descr="C:\Users\Owner\AppData\Local\Microsoft\Windows\Temporary Internet Files\Content.IE5\465JHOFG\MM900236492[1].gif"/>
          <p:cNvPicPr/>
          <p:nvPr/>
        </p:nvPicPr>
        <p:blipFill>
          <a:blip r:embed="rId2"/>
          <a:stretch/>
        </p:blipFill>
        <p:spPr>
          <a:xfrm>
            <a:off x="7315200" y="4714920"/>
            <a:ext cx="182880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Title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200" spc="-1" strike="noStrike">
                <a:solidFill>
                  <a:srgbClr val="ffffff"/>
                </a:solidFill>
                <a:latin typeface="Century Gothic"/>
              </a:rPr>
              <a:t>EL ANIMAL </a:t>
            </a:r>
            <a:endParaRPr b="0" lang="en-US" sz="7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200" spc="-1" strike="noStrike">
                <a:solidFill>
                  <a:srgbClr val="ffffff"/>
                </a:solidFill>
                <a:latin typeface="Century Gothic"/>
              </a:rPr>
              <a:t>DE PELUCHE</a:t>
            </a:r>
            <a:endParaRPr b="0" lang="en-US" sz="7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11" name="Picture 4" descr="C:\Users\Owner\AppData\Local\Microsoft\Windows\Temporary Internet Files\Content.IE5\465JHOFG\MM900236492[1].gif"/>
          <p:cNvPicPr/>
          <p:nvPr/>
        </p:nvPicPr>
        <p:blipFill>
          <a:blip r:embed="rId2"/>
          <a:stretch/>
        </p:blipFill>
        <p:spPr>
          <a:xfrm>
            <a:off x="7315200" y="4714920"/>
            <a:ext cx="182880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Title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67652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 txBox="1"/>
          <p:nvPr/>
        </p:nvSpPr>
        <p:spPr>
          <a:xfrm>
            <a:off x="457200" y="21337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2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ES_tradnl" sz="72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ES_tradnl" sz="72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ES_tradnl" sz="7200" spc="-1" strike="noStrike">
                <a:solidFill>
                  <a:srgbClr val="ffffff"/>
                </a:solidFill>
                <a:latin typeface="Century Gothic"/>
              </a:rPr>
              <a:t>SE SONREÍAN</a:t>
            </a:r>
            <a:endParaRPr b="0" lang="en-US" sz="7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14" name="Picture 4" descr="C:\Users\Owner\AppData\Local\Microsoft\Windows\Temporary Internet Files\Content.IE5\465JHOFG\MM900236492[1].gif"/>
          <p:cNvPicPr/>
          <p:nvPr/>
        </p:nvPicPr>
        <p:blipFill>
          <a:blip r:embed="rId2"/>
          <a:stretch/>
        </p:blipFill>
        <p:spPr>
          <a:xfrm>
            <a:off x="7315200" y="4714920"/>
            <a:ext cx="182880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Title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ffffff"/>
                </a:solidFill>
                <a:latin typeface="Century Gothic"/>
              </a:rPr>
              <a:t>me reía</a:t>
            </a:r>
            <a:r>
              <a:rPr b="0" lang="es-ES_tradnl" sz="6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ES_tradnl" sz="6000" spc="-1" strike="noStrike">
                <a:solidFill>
                  <a:srgbClr val="ffffff"/>
                </a:solidFill>
                <a:latin typeface="Century Gothic"/>
              </a:rPr>
              <a:t>nos reíamos</a:t>
            </a:r>
            <a:endParaRPr b="0" lang="en-US" sz="6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ffffff"/>
                </a:solidFill>
                <a:latin typeface="Century Gothic"/>
              </a:rPr>
              <a:t>te reías</a:t>
            </a:r>
            <a:r>
              <a:rPr b="0" lang="es-ES_tradnl" sz="6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ES_tradnl" sz="6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ES_tradnl" sz="6000" spc="-1" strike="noStrike">
                <a:solidFill>
                  <a:srgbClr val="ffffff"/>
                </a:solidFill>
                <a:latin typeface="Century Gothic"/>
              </a:rPr>
              <a:t>os reías</a:t>
            </a:r>
            <a:endParaRPr b="0" lang="en-US" sz="6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ffffff"/>
                </a:solidFill>
                <a:latin typeface="Century Gothic"/>
              </a:rPr>
              <a:t>se reía</a:t>
            </a:r>
            <a:r>
              <a:rPr b="0" lang="es-ES_tradnl" sz="6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ES_tradnl" sz="6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ES_tradnl" sz="6000" spc="-1" strike="noStrike">
                <a:solidFill>
                  <a:srgbClr val="ffffff"/>
                </a:solidFill>
                <a:latin typeface="Century Gothic"/>
              </a:rPr>
              <a:t>se reían</a:t>
            </a:r>
            <a:endParaRPr b="0" lang="en-US" sz="6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17" name="Picture 4" descr="C:\Users\Owner\AppData\Local\Microsoft\Windows\Temporary Internet Files\Content.IE5\465JHOFG\MM900236492[1].gif"/>
          <p:cNvPicPr/>
          <p:nvPr/>
        </p:nvPicPr>
        <p:blipFill>
          <a:blip r:embed="rId2"/>
          <a:stretch/>
        </p:blipFill>
        <p:spPr>
          <a:xfrm>
            <a:off x="7315200" y="4714920"/>
            <a:ext cx="182880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Title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71288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 txBox="1"/>
          <p:nvPr/>
        </p:nvSpPr>
        <p:spPr>
          <a:xfrm>
            <a:off x="457200" y="25146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200" spc="-1" strike="noStrike">
                <a:solidFill>
                  <a:srgbClr val="ffffff"/>
                </a:solidFill>
                <a:latin typeface="Century Gothic"/>
              </a:rPr>
              <a:t>ME ENOJABA</a:t>
            </a:r>
            <a:endParaRPr b="0" lang="en-US" sz="7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20" name="Picture 4" descr="C:\Users\Owner\AppData\Local\Microsoft\Windows\Temporary Internet Files\Content.IE5\465JHOFG\MM900236492[1].gif"/>
          <p:cNvPicPr/>
          <p:nvPr/>
        </p:nvPicPr>
        <p:blipFill>
          <a:blip r:embed="rId2"/>
          <a:stretch/>
        </p:blipFill>
        <p:spPr>
          <a:xfrm>
            <a:off x="7315200" y="4714920"/>
            <a:ext cx="182880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Title 1" descr=""/>
          <p:cNvPicPr/>
          <p:nvPr/>
        </p:nvPicPr>
        <p:blipFill>
          <a:blip r:embed="rId1"/>
          <a:stretch/>
        </p:blipFill>
        <p:spPr>
          <a:xfrm>
            <a:off x="457200" y="133200"/>
            <a:ext cx="8229600" cy="16527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 txBox="1"/>
          <p:nvPr/>
        </p:nvSpPr>
        <p:spPr>
          <a:xfrm>
            <a:off x="457200" y="23623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800" spc="-1" strike="noStrike">
                <a:solidFill>
                  <a:srgbClr val="ffffff"/>
                </a:solidFill>
                <a:latin typeface="Century Gothic"/>
              </a:rPr>
              <a:t>íbamos</a:t>
            </a:r>
            <a:endParaRPr b="0" lang="en-US" sz="8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23" name="Picture 4" descr="C:\Users\Owner\AppData\Local\Microsoft\Windows\Temporary Internet Files\Content.IE5\465JHOFG\MM900236492[1].gif"/>
          <p:cNvPicPr/>
          <p:nvPr/>
        </p:nvPicPr>
        <p:blipFill>
          <a:blip r:embed="rId2"/>
          <a:stretch/>
        </p:blipFill>
        <p:spPr>
          <a:xfrm>
            <a:off x="7315200" y="4714920"/>
            <a:ext cx="182880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8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8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8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8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8T16:52:39Z</dcterms:created>
  <dc:creator>Heather Heffernen</dc:creator>
  <dc:description/>
  <dc:language>en-US</dc:language>
  <cp:lastModifiedBy>Prine, Stephanie</cp:lastModifiedBy>
  <dcterms:modified xsi:type="dcterms:W3CDTF">2016-02-10T17:01:21Z</dcterms:modified>
  <cp:revision>39</cp:revision>
  <dc:subject/>
  <dc:title>BLUFF</dc:title>
</cp:coreProperties>
</file>